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C35-C988-49C6-B196-B86DB8B4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1ED-7894-412E-9B3A-2EEE68C1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952-DD49-4564-A47A-A4FD6C6F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ACE-45E7-4C14-BA3E-A92F7839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056-499D-4B61-BD09-AC55EEA9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26D-C319-4263-9341-15C3A8DB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265-89BF-4E24-9078-A17A972F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6E6-4031-4E6E-9810-9D29ECAC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2A7-F549-4925-8BE3-1833E8E9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85A-A5FA-45E9-B06A-8408BF5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640-CF3B-4062-859D-7684CAC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A9F-8123-4140-9D9D-A8DE4BE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0134-14CC-4724-86E0-7F9804AB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aseen A. and Charlie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44956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ase You Didn’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ods of 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Tactic for Wa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tiful Rain for Abund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ot* a lot of tourist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Dry Years, with less rain fall so wheat crops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’s C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Russia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thern Loc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a is CO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9271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l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52388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228600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 Contin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743200"/>
            <a:ext cx="56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8954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819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35053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58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id Continental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teppe— Found in South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1:56:58Z</dcterms:created>
  <dc:creator>QPS</dc:creator>
  <dc:description/>
  <dc:language>en-US</dc:language>
  <cp:lastModifiedBy>QPS</cp:lastModifiedBy>
  <dcterms:modified xsi:type="dcterms:W3CDTF">2010-04-22T02:14:00Z</dcterms:modified>
  <cp:revision>3</cp:revision>
  <dc:subject/>
  <dc:title>Russia’s Climate</dc:title>
</cp:coreProperties>
</file>